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407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552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8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04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8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04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552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280" y="407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552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48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0480" y="155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2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48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0480" y="4077000"/>
            <a:ext cx="26431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5520" y="407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57000"/>
            <a:ext cx="4005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4077000"/>
            <a:ext cx="8209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895320" indent="-181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257480" indent="-18108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619280" indent="-18108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619280" indent="-181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619280" indent="-181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219320"/>
            <a:ext cx="8305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69280" y="673560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Saul Greenbe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714240" algn="ctr"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1076400" algn="ctr">
              <a:spcBef>
                <a:spcPts val="400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4" marL="1438200" algn="ctr">
              <a:spcBef>
                <a:spcPts val="400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5" marL="14382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6" marL="14382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406600"/>
            <a:ext cx="81342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Verdana"/>
              </a:rPr>
              <a:t>CRAP</a:t>
            </a:r>
            <a:br>
              <a:rPr sz="3200"/>
            </a:b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trast, repetition, alignment, proximity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71280" y="6543720"/>
            <a:ext cx="889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Slide deck by Saul Greenberg.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Permission is granted to use this for non-commercial purposes as long as general credit to Saul Greenberg is clearly maintained. </a:t>
            </a:r>
            <a:br>
              <a:rPr sz="800"/>
            </a:b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Warning: some material in this deck is used from other sources without permission. Credit to the original source is given if it is know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37360"/>
            <a:ext cx="8748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Major sources: Designing Visual Interfaces, Mullet &amp; Sano, Prentice Hall / Robin Williams Non-Designers Design Book, Peachpit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does your eye go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RAP combines to give you cues of how to read the graphi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451400" cy="3112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348000" y="3219120"/>
            <a:ext cx="93024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27320"/>
            <a:ext cx="157788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948200"/>
            <a:ext cx="157788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e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667120"/>
            <a:ext cx="157788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ain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6027480"/>
            <a:ext cx="157788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does your eye go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oxes do not create a strong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AP fixes i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435640" y="4365720"/>
            <a:ext cx="2241360" cy="1593720"/>
            <a:chOff x="5435640" y="4365720"/>
            <a:chExt cx="2241360" cy="1593720"/>
          </a:xfrm>
        </p:grpSpPr>
        <p:sp>
          <p:nvSpPr>
            <p:cNvPr id="151" name=""/>
            <p:cNvSpPr/>
            <p:nvPr/>
          </p:nvSpPr>
          <p:spPr>
            <a:xfrm>
              <a:off x="5435640" y="4365720"/>
              <a:ext cx="2241360" cy="1593720"/>
            </a:xfrm>
            <a:prstGeom prst="rect">
              <a:avLst/>
            </a:prstGeom>
            <a:solidFill>
              <a:srgbClr val="ffffa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6880" y="4543200"/>
              <a:ext cx="52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7280" y="4543200"/>
              <a:ext cx="52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46880" y="5133960"/>
              <a:ext cx="52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37280" y="5133960"/>
              <a:ext cx="52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692680" y="4660920"/>
              <a:ext cx="844560" cy="12240"/>
              <a:chOff x="5692680" y="4660920"/>
              <a:chExt cx="844560" cy="12240"/>
            </a:xfrm>
          </p:grpSpPr>
          <p:sp>
            <p:nvSpPr>
              <p:cNvPr id="157" name=""/>
              <p:cNvSpPr/>
              <p:nvPr/>
            </p:nvSpPr>
            <p:spPr>
              <a:xfrm>
                <a:off x="5692680" y="4660920"/>
                <a:ext cx="22320" cy="1224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94560" y="4666680"/>
                <a:ext cx="74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692680" y="4803840"/>
              <a:ext cx="844560" cy="12240"/>
              <a:chOff x="5692680" y="4803840"/>
              <a:chExt cx="844560" cy="12240"/>
            </a:xfrm>
          </p:grpSpPr>
          <p:sp>
            <p:nvSpPr>
              <p:cNvPr id="160" name=""/>
              <p:cNvSpPr/>
              <p:nvPr/>
            </p:nvSpPr>
            <p:spPr>
              <a:xfrm>
                <a:off x="5692680" y="4803840"/>
                <a:ext cx="22320" cy="1224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94560" y="4809600"/>
                <a:ext cx="74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692680" y="4937040"/>
              <a:ext cx="844560" cy="12240"/>
              <a:chOff x="5692680" y="4937040"/>
              <a:chExt cx="844560" cy="12240"/>
            </a:xfrm>
          </p:grpSpPr>
          <p:sp>
            <p:nvSpPr>
              <p:cNvPr id="163" name=""/>
              <p:cNvSpPr/>
              <p:nvPr/>
            </p:nvSpPr>
            <p:spPr>
              <a:xfrm>
                <a:off x="5692680" y="4937040"/>
                <a:ext cx="22320" cy="1224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94560" y="4943160"/>
                <a:ext cx="74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83320" y="5261040"/>
              <a:ext cx="844560" cy="12240"/>
              <a:chOff x="5683320" y="5261040"/>
              <a:chExt cx="844560" cy="122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83320" y="5261040"/>
                <a:ext cx="22320" cy="1224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84840" y="5266800"/>
                <a:ext cx="74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683320" y="5403600"/>
              <a:ext cx="844560" cy="12600"/>
              <a:chOff x="5683320" y="5403600"/>
              <a:chExt cx="844560" cy="12600"/>
            </a:xfrm>
          </p:grpSpPr>
          <p:sp>
            <p:nvSpPr>
              <p:cNvPr id="169" name=""/>
              <p:cNvSpPr/>
              <p:nvPr/>
            </p:nvSpPr>
            <p:spPr>
              <a:xfrm>
                <a:off x="5683320" y="5403600"/>
                <a:ext cx="22320" cy="1260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5409720"/>
                <a:ext cx="74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683320" y="5537160"/>
              <a:ext cx="844560" cy="12240"/>
              <a:chOff x="5683320" y="5537160"/>
              <a:chExt cx="844560" cy="12240"/>
            </a:xfrm>
          </p:grpSpPr>
          <p:sp>
            <p:nvSpPr>
              <p:cNvPr id="172" name=""/>
              <p:cNvSpPr/>
              <p:nvPr/>
            </p:nvSpPr>
            <p:spPr>
              <a:xfrm>
                <a:off x="5683320" y="5537160"/>
                <a:ext cx="22320" cy="12240"/>
              </a:xfrm>
              <a:prstGeom prst="ellipse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84840" y="5542920"/>
                <a:ext cx="74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308720" y="58579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46920" y="58579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508720" y="1773360"/>
            <a:ext cx="2117520" cy="1577880"/>
            <a:chOff x="5508720" y="1773360"/>
            <a:chExt cx="2117520" cy="1577880"/>
          </a:xfrm>
        </p:grpSpPr>
        <p:grpSp>
          <p:nvGrpSpPr>
            <p:cNvPr id="177" name=""/>
            <p:cNvGrpSpPr/>
            <p:nvPr/>
          </p:nvGrpSpPr>
          <p:grpSpPr>
            <a:xfrm>
              <a:off x="5511960" y="1773360"/>
              <a:ext cx="1434960" cy="387360"/>
              <a:chOff x="5511960" y="1773360"/>
              <a:chExt cx="1434960" cy="387360"/>
            </a:xfrm>
          </p:grpSpPr>
          <p:sp>
            <p:nvSpPr>
              <p:cNvPr id="178" name=""/>
              <p:cNvSpPr/>
              <p:nvPr/>
            </p:nvSpPr>
            <p:spPr>
              <a:xfrm>
                <a:off x="5511960" y="1773360"/>
                <a:ext cx="143496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37240" y="187812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637240" y="1971360"/>
                <a:ext cx="959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37240" y="208296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956640" y="1776600"/>
              <a:ext cx="669600" cy="387360"/>
              <a:chOff x="6956640" y="1776600"/>
              <a:chExt cx="669600" cy="387360"/>
            </a:xfrm>
          </p:grpSpPr>
          <p:sp>
            <p:nvSpPr>
              <p:cNvPr id="183" name=""/>
              <p:cNvSpPr/>
              <p:nvPr/>
            </p:nvSpPr>
            <p:spPr>
              <a:xfrm>
                <a:off x="6956640" y="1776600"/>
                <a:ext cx="66960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08840" y="1881360"/>
                <a:ext cx="5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08840" y="1979640"/>
                <a:ext cx="447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08840" y="2086200"/>
                <a:ext cx="5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508720" y="2167200"/>
              <a:ext cx="669960" cy="387360"/>
              <a:chOff x="5508720" y="2167200"/>
              <a:chExt cx="669960" cy="387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8720" y="2167200"/>
                <a:ext cx="66996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0920" y="227196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60920" y="2370240"/>
                <a:ext cx="447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60920" y="247644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188040" y="2165400"/>
              <a:ext cx="1435320" cy="395280"/>
              <a:chOff x="6188040" y="2165400"/>
              <a:chExt cx="1435320" cy="395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188040" y="2165400"/>
                <a:ext cx="1435320" cy="39528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13680" y="227196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313680" y="2368440"/>
                <a:ext cx="958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13680" y="248148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511960" y="2563920"/>
              <a:ext cx="1434960" cy="387360"/>
              <a:chOff x="5511960" y="2563920"/>
              <a:chExt cx="1434960" cy="387360"/>
            </a:xfrm>
          </p:grpSpPr>
          <p:sp>
            <p:nvSpPr>
              <p:cNvPr id="198" name=""/>
              <p:cNvSpPr/>
              <p:nvPr/>
            </p:nvSpPr>
            <p:spPr>
              <a:xfrm>
                <a:off x="5511960" y="2563920"/>
                <a:ext cx="143496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37240" y="266868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637240" y="2761920"/>
                <a:ext cx="959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37240" y="287352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956640" y="2567160"/>
              <a:ext cx="669600" cy="387360"/>
              <a:chOff x="6956640" y="2567160"/>
              <a:chExt cx="669600" cy="387360"/>
            </a:xfrm>
          </p:grpSpPr>
          <p:sp>
            <p:nvSpPr>
              <p:cNvPr id="203" name=""/>
              <p:cNvSpPr/>
              <p:nvPr/>
            </p:nvSpPr>
            <p:spPr>
              <a:xfrm>
                <a:off x="6956640" y="2567160"/>
                <a:ext cx="66960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08840" y="2671920"/>
                <a:ext cx="5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08840" y="2770200"/>
                <a:ext cx="447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08840" y="2876760"/>
                <a:ext cx="5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508720" y="2957760"/>
              <a:ext cx="669960" cy="387360"/>
              <a:chOff x="5508720" y="2957760"/>
              <a:chExt cx="669960" cy="387360"/>
            </a:xfrm>
          </p:grpSpPr>
          <p:sp>
            <p:nvSpPr>
              <p:cNvPr id="208" name=""/>
              <p:cNvSpPr/>
              <p:nvPr/>
            </p:nvSpPr>
            <p:spPr>
              <a:xfrm>
                <a:off x="5508720" y="2957760"/>
                <a:ext cx="669960" cy="38736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60920" y="306252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60920" y="3160800"/>
                <a:ext cx="447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60920" y="326736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188040" y="2955960"/>
              <a:ext cx="1435320" cy="395280"/>
              <a:chOff x="6188040" y="2955960"/>
              <a:chExt cx="1435320" cy="395280"/>
            </a:xfrm>
          </p:grpSpPr>
          <p:sp>
            <p:nvSpPr>
              <p:cNvPr id="213" name=""/>
              <p:cNvSpPr/>
              <p:nvPr/>
            </p:nvSpPr>
            <p:spPr>
              <a:xfrm>
                <a:off x="6188040" y="2955960"/>
                <a:ext cx="1435320" cy="395280"/>
              </a:xfrm>
              <a:prstGeom prst="rect">
                <a:avLst/>
              </a:prstGeom>
              <a:solidFill>
                <a:srgbClr val="ffffa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13680" y="306252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313680" y="3159000"/>
                <a:ext cx="958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13680" y="3272040"/>
                <a:ext cx="113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408360" y="6021360"/>
            <a:ext cx="4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62280" y="3429000"/>
            <a:ext cx="45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does your eye go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ome contrast and weak proximity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mbiguous structu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terleaved ite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10" t="4574" r="54398" b="3057"/>
          <a:stretch/>
        </p:blipFill>
        <p:spPr>
          <a:xfrm>
            <a:off x="4714920" y="1989000"/>
            <a:ext cx="4105080" cy="424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370200" y="6308640"/>
            <a:ext cx="45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ere does your eye go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trong proximity (left/right split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nambiguou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47130" t="4574" r="2286" b="20251"/>
          <a:stretch/>
        </p:blipFill>
        <p:spPr>
          <a:xfrm>
            <a:off x="4140360" y="2060640"/>
            <a:ext cx="4752720" cy="3457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208200" y="5661000"/>
            <a:ext cx="4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Where does your eye go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4824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e strength of proximity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g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white (negative) spa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licit structure a poor replac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78200" y="3352680"/>
            <a:ext cx="2003400" cy="3008160"/>
            <a:chOff x="6478200" y="3352680"/>
            <a:chExt cx="2003400" cy="3008160"/>
          </a:xfrm>
        </p:grpSpPr>
        <p:sp>
          <p:nvSpPr>
            <p:cNvPr id="232" name=""/>
            <p:cNvSpPr/>
            <p:nvPr/>
          </p:nvSpPr>
          <p:spPr>
            <a:xfrm>
              <a:off x="6478200" y="33526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78560" y="335556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8200" y="37177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78560" y="372096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2240" y="466704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2960" y="467028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2240" y="50320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2960" y="503532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92240" y="539100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92960" y="5393880"/>
              <a:ext cx="10886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97080" y="5994000"/>
              <a:ext cx="48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63200" y="3352680"/>
            <a:ext cx="1989000" cy="2982960"/>
            <a:chOff x="763200" y="3352680"/>
            <a:chExt cx="1989000" cy="2982960"/>
          </a:xfrm>
        </p:grpSpPr>
        <p:sp>
          <p:nvSpPr>
            <p:cNvPr id="244" name=""/>
            <p:cNvSpPr/>
            <p:nvPr/>
          </p:nvSpPr>
          <p:spPr>
            <a:xfrm>
              <a:off x="763200" y="33526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63560" y="3355560"/>
              <a:ext cx="10886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3200" y="38224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63560" y="382572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00" y="435096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63560" y="435420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200" y="48481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63560" y="4851000"/>
              <a:ext cx="10886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3200" y="543060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63560" y="543384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09120" y="5968800"/>
              <a:ext cx="456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733920" y="3352680"/>
            <a:ext cx="2133360" cy="2514600"/>
            <a:chOff x="3733920" y="3352680"/>
            <a:chExt cx="2133360" cy="2514600"/>
          </a:xfrm>
        </p:grpSpPr>
        <p:sp>
          <p:nvSpPr>
            <p:cNvPr id="256" name=""/>
            <p:cNvSpPr/>
            <p:nvPr/>
          </p:nvSpPr>
          <p:spPr>
            <a:xfrm>
              <a:off x="3733920" y="3352680"/>
              <a:ext cx="2133360" cy="914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5000" y="342864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5360" y="343188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5000" y="389880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5360" y="3901680"/>
              <a:ext cx="10886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5000" y="44272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35360" y="443052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5000" y="492408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5360" y="4927320"/>
              <a:ext cx="10886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5000" y="55069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mm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35360" y="5509800"/>
              <a:ext cx="10886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33920" y="4343040"/>
              <a:ext cx="2133360" cy="15242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04840" y="0"/>
            <a:ext cx="8039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443640" y="6221520"/>
            <a:ext cx="2627280" cy="5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443640" y="6221520"/>
            <a:ext cx="2627280" cy="5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xi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04840" y="0"/>
            <a:ext cx="8039160" cy="6886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443640" y="6221520"/>
            <a:ext cx="2627280" cy="5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032360" cy="279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51280" y="3068640"/>
            <a:ext cx="44514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443640" y="6221520"/>
            <a:ext cx="2627280" cy="5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443640" y="6221520"/>
            <a:ext cx="2627280" cy="5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Ouch!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3065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524640"/>
            <a:ext cx="1828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Web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99640" y="3933360"/>
            <a:ext cx="67690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rrible alignment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f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r contrast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not distinguish colored labels from editable fiel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r repeti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tons do not look like butt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r explicit structure replaces proximit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locks compete with align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No rhyme nor reason..."/>
          <p:cNvPicPr/>
          <p:nvPr/>
        </p:nvPicPr>
        <p:blipFill>
          <a:blip r:embed="rId1"/>
          <a:stretch/>
        </p:blipFill>
        <p:spPr>
          <a:xfrm>
            <a:off x="2438280" y="50760"/>
            <a:ext cx="6526440" cy="6073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6453360"/>
            <a:ext cx="4800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IBM's Aptiva Communicatio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1932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regard for order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82720" y="549360"/>
            <a:ext cx="20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phazard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2725" t="1696" r="4824" b="8615"/>
          <a:stretch/>
        </p:blipFill>
        <p:spPr>
          <a:xfrm>
            <a:off x="3105000" y="0"/>
            <a:ext cx="6039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Mullet &amp; S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11280" y="549360"/>
            <a:ext cx="292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airing the layou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4223" t="2752" r="13490" b="2752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Mullet &amp; S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2848" t="1722" r="2767" b="81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156360" y="333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atial 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Mullet &amp; S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4320" t="4476" r="7200" b="1925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80040" y="5805360"/>
            <a:ext cx="306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explicit structure as a cru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27280" y="5157720"/>
            <a:ext cx="533520" cy="609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Mullet &amp; S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1846" t="6479" r="1715" b="4177"/>
          <a:stretch/>
        </p:blipFill>
        <p:spPr>
          <a:xfrm>
            <a:off x="0" y="170028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229360"/>
            <a:ext cx="679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signing a layout using alignment and facto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Mullet &amp; S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04840" y="0"/>
            <a:ext cx="8039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04840" y="-28440"/>
            <a:ext cx="8039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RA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trast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petitio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ignment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oximity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RA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ontrast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ke different things diff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rings out dominant ele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utes lesser ele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eates dynamism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epetitio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lignment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roximity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451400" cy="311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08360" y="350676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393984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58784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516384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566712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3669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RA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ontrast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petitio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peat design throughout the interfa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sistenc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eates unity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lignment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roximi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451400" cy="311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350676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58784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9600" y="451476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45948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3645000"/>
            <a:ext cx="649080" cy="5760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4724280"/>
            <a:ext cx="649080" cy="5763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4724280"/>
            <a:ext cx="649080" cy="10810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308360" y="4653000"/>
            <a:ext cx="576360" cy="5763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00360" y="4653000"/>
            <a:ext cx="1584360" cy="11523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32360" y="5516640"/>
            <a:ext cx="1008000" cy="1009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32360" y="4941720"/>
            <a:ext cx="719280" cy="15843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3669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RA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ontrast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epetition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ignment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eates a visual flow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isually connects ele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roximi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451400" cy="3112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32360" y="251136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5960" y="637848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487512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7480" y="641952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3669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RA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ontrast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epetitio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b2b2b2"/>
                </a:solidFill>
                <a:latin typeface="Verdana"/>
              </a:rPr>
              <a:t>lignment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oximity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oups related ele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5760" indent="-27648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parates unrelated on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96480" y="6643800"/>
            <a:ext cx="30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Robin Williams Non-Designers Design Book, Peachpit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451400" cy="3112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716360" y="3573360"/>
            <a:ext cx="3600720" cy="7192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581360"/>
            <a:ext cx="3600720" cy="3589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5157720"/>
            <a:ext cx="3600720" cy="3589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5661000"/>
            <a:ext cx="3600720" cy="4320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16360" y="4581360"/>
            <a:ext cx="287280" cy="15116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21912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78880" y="480348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163840"/>
            <a:ext cx="282600" cy="274680"/>
          </a:xfr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4724280"/>
            <a:ext cx="142560" cy="217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317080" y="4941720"/>
            <a:ext cx="142560" cy="8636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3669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1T20:55:50Z</dcterms:created>
  <dc:creator>Saul Greenberg</dc:creator>
  <dc:description/>
  <cp:keywords/>
  <dc:language>en-US</dc:language>
  <cp:lastModifiedBy>Saul Greenberg</cp:lastModifiedBy>
  <cp:lastPrinted>1997-09-24T04:52:04Z</cp:lastPrinted>
  <dcterms:modified xsi:type="dcterms:W3CDTF">2006-02-13T04:14:59Z</dcterms:modified>
  <cp:revision>121</cp:revision>
  <dc:subject/>
  <dc:title>Graphical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psc.ucalgary.ca/~saul</vt:lpwstr>
  </property>
  <property fmtid="{D5CDD505-2E9C-101B-9397-08002B2CF9AE}" pid="9" name="LinkColor">
    <vt:r8>16711782</vt:r8>
  </property>
  <property fmtid="{D5CDD505-2E9C-101B-9397-08002B2CF9AE}" pid="10" name="MailAddress">
    <vt:lpwstr>saul@cpsc.ucalgary.ca</vt:lpwstr>
  </property>
  <property fmtid="{D5CDD505-2E9C-101B-9397-08002B2CF9AE}" pid="11" name="NavBtnPos">
    <vt:r8>1</vt:r8>
  </property>
  <property fmtid="{D5CDD505-2E9C-101B-9397-08002B2CF9AE}" pid="12" name="Other">
    <vt:lpwstr>Saul Greenberg, 
Department of Computer Science, 
University of Calgary,  
Calgary, Alberta CANADA
T2N 1N4</vt:lpwstr>
  </property>
  <property fmtid="{D5CDD505-2E9C-101B-9397-08002B2CF9AE}" pid="13" name="OutputDir">
    <vt:lpwstr>D:\@www\grouplab\saul\481\topic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